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A67-74D9-42DF-B309-DCFED151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7D0-91C9-442E-830D-92416FE4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02C-FBE5-4067-BECC-E6980106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653-A8BC-4811-A496-10418599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189-9FE2-4E1D-BFE4-DA792F0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317-84A6-4321-B92C-F4EAA688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F4B-2113-42F3-AC0F-EA4FBD4E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ECF-8D17-4B28-8840-3D8904B2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19A-F8E6-492D-B45B-F944077E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67C-B3E9-471C-80A0-12F4B1D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5F3-AB8B-4664-AD33-39F01469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186-6DA1-4176-A9A6-994932A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73F5-EE78-4A15-ACF6-FCBA6BC69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916280"/>
            <a:ext cx="8640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AVENTURAS 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LI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816360" cy="279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076720" y="3860640"/>
            <a:ext cx="3735360" cy="2708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627280" y="3141720"/>
            <a:ext cx="41544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S SIRENA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n su dulce melodía atraen a las personas hasta la m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08000" y="333360"/>
            <a:ext cx="554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ESCILA Y CARIBDIS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5876640"/>
            <a:ext cx="9145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los estrechos de los mares son peligrosos, y en ellos se esconden criaturas monstruo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457440" cy="174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0" y="6021360"/>
            <a:ext cx="898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ACAS SAGRADAS DEL DIOS HELIO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lises pasó un largo tiempo con la ninfa Calip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3241800" cy="242280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7" name=""/>
          <p:cNvSpPr txBox="1"/>
          <p:nvPr/>
        </p:nvSpPr>
        <p:spPr>
          <a:xfrm>
            <a:off x="2050920" y="692280"/>
            <a:ext cx="561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 NINFA CALIPSO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811840" y="189000"/>
            <a:ext cx="33321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SLA DE 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FEA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63640" y="404640"/>
            <a:ext cx="576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07932" dir="8100000" blurRad="0" rotWithShape="0">
                    <a:srgbClr val="3399ff">
                      <a:alpha val="50000"/>
                    </a:srgbClr>
                  </a:outerShdw>
                </a:effectLst>
                <a:latin typeface="Arial Black"/>
              </a:rPr>
              <a:t>EL REGRESO A ÍTACA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07932" dir="8100000" blurRad="0" rotWithShape="0">
                  <a:srgbClr val="33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551664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BATALLA DE TROYA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51280" y="85680"/>
            <a:ext cx="529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SLA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LOS C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3117600" cy="3124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573720" cy="289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558972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La flor de loto tiene unos efectos alucinógenos cuando la toma un ser hu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62064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00cc"/>
                  </a:solidFill>
                  <a:miter/>
                </a:ln>
                <a:solidFill>
                  <a:srgbClr val="cc66ff"/>
                </a:solidFill>
                <a:latin typeface="Arial Black"/>
              </a:rPr>
              <a:t>LA FLOR DE LOTO</a:t>
            </a:r>
            <a:endParaRPr b="0" lang="en-US" sz="1800" spc="1" strike="noStrike">
              <a:ln w="38160">
                <a:solidFill>
                  <a:srgbClr val="6600cc"/>
                </a:solidFill>
                <a:miter/>
              </a:ln>
              <a:solidFill>
                <a:srgbClr val="cc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176720" cy="4751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03760" y="1557360"/>
            <a:ext cx="3925800" cy="4751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324000" y="0"/>
            <a:ext cx="8496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33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L CICLOPE ANTROPÓFAGO POLIFEMO</a:t>
            </a:r>
            <a:endParaRPr b="0" lang="en-US" sz="1800" spc="1" strike="noStrike">
              <a:ln w="38160">
                <a:solidFill>
                  <a:srgbClr val="6633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1120"/>
            <a:ext cx="8642160" cy="64850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" name=""/>
          <p:cNvSpPr txBox="1"/>
          <p:nvPr/>
        </p:nvSpPr>
        <p:spPr>
          <a:xfrm>
            <a:off x="250920" y="333360"/>
            <a:ext cx="396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DIOS EO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333360"/>
            <a:ext cx="8734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ATAQUE DE LOS LESTRIG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00000" y="6308640"/>
            <a:ext cx="77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vierte a todo ser humano en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24000" y="5300640"/>
            <a:ext cx="4624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 MAGA CIR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360" y="40464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BAJADA A LOS INFIERNO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57:08Z</dcterms:created>
  <dc:creator>MIGUEL</dc:creator>
  <dc:description/>
  <dc:language>en-US</dc:language>
  <cp:lastModifiedBy>MIGUEL</cp:lastModifiedBy>
  <dcterms:modified xsi:type="dcterms:W3CDTF">2010-11-08T15:05:47Z</dcterms:modified>
  <cp:revision>15</cp:revision>
  <dc:subject/>
  <dc:title>Diapositiva 1</dc:title>
</cp:coreProperties>
</file>